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3809-B217-4841-8BFF-5E68C5E1E82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4D06-EB19-4247-BFDD-B93F6428A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E85E-3F14-4B3E-A242-4ABE8724D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344-893E-4FE1-92DA-5ED0BDE1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25B-1513-4752-9759-B37E695C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0B6-C01E-4EF9-8BD7-9A34342F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579-B3E4-47F5-9943-A22F83AA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2406-7A6B-410C-8CF1-C3171B8D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72B2-4078-41EF-AF84-7E3612B3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53B5-8646-47EC-8707-3B230D9E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880D-C3C1-4407-B2B4-BA9F2AAF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36F9-174D-4665-9B0E-4295CEDF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151F-15E3-4856-A62A-31E24890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EC30-25B1-41E9-9456-9A93B802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FCC-7976-41CD-B161-99BA3777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7E1E-26B8-4703-A663-5B9407DC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5ADB-F77F-4E6B-9347-8AF257AB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F9BF-E874-41ED-85BF-0FF5CD11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B8E7-7143-4A05-B5B1-3907A194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C8DE-70BA-4A1D-873D-3FAF2C27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721A6-CD4B-4835-942D-6BDDDE7D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7202C-36E3-4EA4-A93E-7D046D01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D25EA-FD51-4835-B35E-8797B65F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44459-7C3D-4910-B4FB-C3D80AF6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25A62-30B8-4B57-927A-EE9F49FF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703-6327-40F8-AB4E-F9051A83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306B9-7852-431C-BFF8-05802523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881CE-D186-44DF-8827-75626EEB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3778C-6301-444F-A3DA-431C0566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73450-BB3D-4E35-B1C1-17AC5A9F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CB5B0-6907-4CE3-9016-73D21F7A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EA45C-1C55-4CD1-9B59-3B121520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526C7-A377-4A29-91BC-3BE9F7FD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7AA1D-B9D9-4564-A21B-547E2BFF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A526E-AD66-459C-A8C9-5109498F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2E123-477A-462B-8414-AF0F95CF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267-CFFC-4B24-B2AF-04F64E69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B8E73-B0A0-4470-B7E0-93FC6814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DF889-C29C-41DB-9A7B-A981B0F7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35AF1-7349-4641-BDAE-00A385F3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0E06-7E53-4633-807C-84C29F94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62D81-6CCE-4170-A962-28F178DF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E382E-6019-4C3A-8B3D-3FFCA8C9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33C0F-C385-4CF2-AC8C-D082F049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538F1-F0D3-43B7-905E-548FACFF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47B18-CE6A-4727-98E5-A0C456BF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6A930-FA57-4479-B1CE-61957A2C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2FD-2BE5-4E1F-B22B-3E2A1F89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B02FB-5AD0-42F6-917F-4246537D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E827B-5C88-4218-B7A8-27501F15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D5E3D-2539-497F-B3B3-3F2CF9F5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3D9A7-0671-444B-9C78-FF8FD53C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DA6AB-F557-41F0-8AB3-C7B10897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5CB9F-7646-4422-9C44-05542EE4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96E85-AA25-4217-95D9-B0BE164C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8FD58-9CAD-4560-9230-D5F30121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3A6A1-80AD-425B-AE5A-6F2CE04C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7F9D6-518F-4962-9F0F-09EE9A4E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D22-502E-43C8-8E0A-58CC3324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8F7B7-47B2-45C2-A6EC-09BB505B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CDE9E-0BD1-44D8-84D5-8A90893A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651E7-0EDB-4979-ABD6-F6DC7284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F3679-8BA5-49CD-8145-83DD8F73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5FBE8-EE6A-492B-A9AE-8CCE8F48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A22758-EDF6-42F2-913A-CA20AE0A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24D66-7CCC-4093-B22C-EE68B9AD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995D3-EB5A-4277-91D5-5A019FC7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B23F2-3064-4C15-9CB6-D200A0E2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E907A-7955-44E0-84E4-79C3A3CE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CB5-58E2-4F38-8B06-E7B67387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3CA43C-CB10-466B-A22A-B358B189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566A7-A40F-4150-8789-8AD2E2AF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D5C3F7-8511-4F85-9CE9-34072BB5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E29B0E-9715-4798-A788-842D3967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CEF42-721D-40EE-9444-31CB6E5A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F0341-2558-49CC-94C0-55728EFF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E82909-A3C9-4BCB-8524-9D6E49EE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571F5A-0EED-4831-B0A0-0C0B1DEE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A84F0-F265-402B-A940-7D2BAFF3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8C9FE-C0FE-4856-926F-B75032C3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AB9-1AE4-4592-8A5A-A6775760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B7BE15-9663-4184-8E10-59191454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E14604-30DC-4D4A-88E3-0AD7561B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FE935-39DD-424C-AF3C-6AA802DC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41746-95C6-42D8-8FCA-0E9EA5C0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741B6-F6B2-4326-9377-5FBEE8B3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117-44E9-41AA-A947-964E0765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1AEA-C8A1-475E-B4D0-13B1031F8FD9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8887-AFDC-4D67-9484-476D6BD33E7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9DF8-7770-48FF-98CF-E9003983CAC3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28F4-69E3-46D1-8DCF-72EEB561FD6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76AB-405F-49EC-9F18-71D0554AECC8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E1B6-7F99-418D-9929-4BADBCA92D2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439E-BC7B-4FDE-B0E8-AED21603690F}" type="datetime">
              <a:rPr b="0" lang="en-US" sz="1200" spc="-1" strike="noStrike">
                <a:solidFill>
                  <a:srgbClr val="fff39d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2541-D105-4124-85C3-B3F27423B9D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D9E3-6B21-401C-A2F7-B72B8C89D4DB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116B-FFCC-41B7-9EB0-CE300BC4662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3567-1062-4974-8DB6-9ABA05031795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6083-6A34-485E-B6FA-A29FE4F697C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9259-524E-43D6-A27F-D8B6060DF2F2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D99D-F213-4E15-9443-0018BFEDC23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Ch. 14 Warm-Up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06668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o was Mendel and how did he contribute to the process of science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aw a Punnett Square to show the following crosse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35000" indent="-514440">
              <a:lnSpc>
                <a:spcPct val="100000"/>
              </a:lnSpc>
              <a:spcBef>
                <a:spcPts val="700"/>
              </a:spcBef>
              <a:buClr>
                <a:srgbClr val="e0752f"/>
              </a:buClr>
              <a:buSzPct val="6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A X aa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35000" indent="-514440">
              <a:lnSpc>
                <a:spcPct val="100000"/>
              </a:lnSpc>
              <a:spcBef>
                <a:spcPts val="700"/>
              </a:spcBef>
              <a:buClr>
                <a:srgbClr val="e0752f"/>
              </a:buClr>
              <a:buSzPct val="6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a X aa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35000" indent="-514440">
              <a:lnSpc>
                <a:spcPct val="100000"/>
              </a:lnSpc>
              <a:spcBef>
                <a:spcPts val="700"/>
              </a:spcBef>
              <a:buClr>
                <a:srgbClr val="e0752f"/>
              </a:buClr>
              <a:buSzPct val="6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a X A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943600" y="228600"/>
            <a:ext cx="2666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efinition Li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e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 gene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1 gene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2 gene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mina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cess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terozygo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noty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04560" y="5257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P (parental) gener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true breeding pla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F</a:t>
            </a:r>
            <a:r>
              <a:rPr b="1" lang="en-US" sz="2400" spc="-1" strike="noStrike" baseline="-25000">
                <a:solidFill>
                  <a:srgbClr val="7030a0"/>
                </a:solidFill>
                <a:latin typeface="Century Schoolbook"/>
              </a:rPr>
              <a:t>1</a:t>
            </a: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 (first filial) gener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offsprin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F</a:t>
            </a:r>
            <a:r>
              <a:rPr b="1" lang="en-US" sz="2400" spc="-1" strike="noStrike" baseline="-25000">
                <a:solidFill>
                  <a:srgbClr val="7030a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 (second filial) gener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ffspr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Content Placeholder 7" descr="14_03FlowerColorCross_3-L.jpg"/>
          <p:cNvPicPr/>
          <p:nvPr/>
        </p:nvPicPr>
        <p:blipFill>
          <a:blip r:embed="rId1"/>
          <a:stretch/>
        </p:blipFill>
        <p:spPr>
          <a:xfrm>
            <a:off x="2362320" y="108000"/>
            <a:ext cx="43434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entury Schoolbook"/>
              </a:rPr>
              <a:t>Allel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: alternate versions of a ge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Content Placeholder 9" descr="14_04Alleles-L.jpg"/>
          <p:cNvPicPr/>
          <p:nvPr/>
        </p:nvPicPr>
        <p:blipFill>
          <a:blip r:embed="rId1"/>
          <a:stretch/>
        </p:blipFill>
        <p:spPr>
          <a:xfrm>
            <a:off x="762120" y="1905120"/>
            <a:ext cx="74674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343400" y="1371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Schoolbook"/>
              </a:rPr>
              <a:t>7 characters in pea plant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Content Placeholder 4" descr="14_T01PeaPlantCharacters-L.jpg"/>
          <p:cNvPicPr/>
          <p:nvPr/>
        </p:nvPicPr>
        <p:blipFill>
          <a:blip r:embed="rId1"/>
          <a:stretch/>
        </p:blipFill>
        <p:spPr>
          <a:xfrm>
            <a:off x="304920" y="76320"/>
            <a:ext cx="3581280" cy="67262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114440" y="2743200"/>
            <a:ext cx="4568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Dominan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vs.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Recessiv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expressed) or (hidden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6960" y="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MENDEL</a:t>
            </a:r>
            <a:r>
              <a:rPr b="0" lang="ja-JP" sz="3200" spc="-1" strike="noStrike">
                <a:solidFill>
                  <a:srgbClr val="575f6d"/>
                </a:solidFill>
                <a:latin typeface="Century Schoolbook"/>
              </a:rPr>
              <a:t>’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S PRINCIPL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0520" y="1066680"/>
            <a:ext cx="853452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ternate version of genes (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allel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 cause variations in inherited characteristics among offspring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r each character, every organism inherits one allele from each paren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f 2 alleles are different, the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dominant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lele will be fully expressed; the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recessive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lele will have no noticeable effect on offspring</a:t>
            </a:r>
            <a:r>
              <a:rPr b="0" lang="ja-JP" sz="28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 appearanc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entury Schoolbook"/>
              </a:rPr>
              <a:t>Law of Segregatio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the 2 alleles for each character separate during gamete form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2286000"/>
            <a:ext cx="3657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3802"/>
                </a:solidFill>
                <a:latin typeface="Century Schoolbook"/>
              </a:rPr>
              <a:t>Law of Segregatio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Content Placeholder 3" descr="14_05LawOfSegregation_3-L.jpg"/>
          <p:cNvPicPr/>
          <p:nvPr/>
        </p:nvPicPr>
        <p:blipFill>
          <a:blip r:embed="rId1"/>
          <a:stretch/>
        </p:blipFill>
        <p:spPr>
          <a:xfrm>
            <a:off x="3936960" y="39600"/>
            <a:ext cx="5130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52280" y="22824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dominan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(P),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recessiv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(p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entury Schoolbook"/>
              </a:rPr>
              <a:t>homozygou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2 same alleles (PP or pp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entury Schoolbook"/>
              </a:rPr>
              <a:t>heterozygou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2 different alleles (Pp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Content Placeholder 6" descr="14_06PhenotypeVGenotype-L.jpg"/>
          <p:cNvPicPr/>
          <p:nvPr/>
        </p:nvPicPr>
        <p:blipFill>
          <a:blip r:embed="rId1"/>
          <a:stretch/>
        </p:blipFill>
        <p:spPr>
          <a:xfrm>
            <a:off x="1981080" y="1962000"/>
            <a:ext cx="53578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52280" y="22824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entury Schoolbook"/>
              </a:rPr>
              <a:t>Phenotyp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expressed physical trai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entury Schoolbook"/>
              </a:rPr>
              <a:t>Genotyp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genetic make-up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Content Placeholder 6" descr="14_06PhenotypeVGenotype-L.jpg"/>
          <p:cNvPicPr/>
          <p:nvPr/>
        </p:nvPicPr>
        <p:blipFill>
          <a:blip r:embed="rId1"/>
          <a:stretch/>
        </p:blipFill>
        <p:spPr>
          <a:xfrm>
            <a:off x="1752480" y="1600200"/>
            <a:ext cx="5681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entury Schoolbook"/>
              </a:rPr>
              <a:t>Punnett Squar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066680"/>
            <a:ext cx="7467480" cy="54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ice for predicting offspring from a cro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: Pp x Pp (P=purple, p=whi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TextBox 6"/>
          <p:cNvSpPr/>
          <p:nvPr/>
        </p:nvSpPr>
        <p:spPr>
          <a:xfrm>
            <a:off x="533520" y="54864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ic Rat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ic Rat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Testcross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>
                <a:solidFill>
                  <a:srgbClr val="020001"/>
                </a:solidFill>
                <a:latin typeface="Arial"/>
                <a:ea typeface="Arial"/>
              </a:rPr>
              <a:t>determine if dominant trait is homozygous or heterozygous by crossing with recessive (pp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Picture 3" descr="14_07TestCross-L.jpg"/>
          <p:cNvPicPr/>
          <p:nvPr/>
        </p:nvPicPr>
        <p:blipFill>
          <a:blip r:embed="rId1"/>
          <a:stretch/>
        </p:blipFill>
        <p:spPr>
          <a:xfrm>
            <a:off x="1755720" y="1843200"/>
            <a:ext cx="5711760" cy="49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519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Century Schoolbook"/>
              </a:rPr>
              <a:t>Law of Independent Assortment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Each pair of alleles segregates (separates) independently during gamete forma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Eg. color is separate from shap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4" descr="14_08IndependentAssort-L.jpg"/>
          <p:cNvPicPr/>
          <p:nvPr/>
        </p:nvPicPr>
        <p:blipFill>
          <a:blip r:embed="rId1"/>
          <a:stretch/>
        </p:blipFill>
        <p:spPr>
          <a:xfrm>
            <a:off x="1752480" y="2133720"/>
            <a:ext cx="556272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5f6d"/>
                </a:solidFill>
                <a:latin typeface="Century Schoolbook"/>
              </a:rPr>
              <a:t>CH. 14 WARM-UP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0880" y="914040"/>
            <a:ext cx="830592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probability that the following cross will produce the indicated offspring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R X Rr  -&gt; R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ABB x aabb -&gt; AaB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ABbCc  X  AaBbCc -&gt; AAbb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uple has 2 children, both blonds with brown eyes.  The parents are both brown eyed (BB), one with blond hair (rr) and one red (Rr).  What is the probability the next child is a brown eyed redhe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456840"/>
            <a:ext cx="815328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entury Schoolbook"/>
              </a:rPr>
              <a:t>Monohybrid cros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study 1 charact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g. flower col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entury Schoolbook"/>
              </a:rPr>
              <a:t>Dihybrid cros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study 2 charact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g. flower color &amp; seed shap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2" descr="http://www.anselm.edu/homepage/jpitocch/genbio/indassort.JPG"/>
          <p:cNvPicPr/>
          <p:nvPr/>
        </p:nvPicPr>
        <p:blipFill>
          <a:blip r:embed="rId1"/>
          <a:stretch/>
        </p:blipFill>
        <p:spPr>
          <a:xfrm>
            <a:off x="4495680" y="2590920"/>
            <a:ext cx="3276720" cy="4073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http://mendeliangenetics.weebly.com/uploads/5/3/5/7/5357641/9201039.png?328"/>
          <p:cNvPicPr/>
          <p:nvPr/>
        </p:nvPicPr>
        <p:blipFill>
          <a:blip r:embed="rId2"/>
          <a:stretch/>
        </p:blipFill>
        <p:spPr>
          <a:xfrm>
            <a:off x="990720" y="3352680"/>
            <a:ext cx="30956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entury Schoolbook"/>
              </a:rPr>
              <a:t>Dihybrid Cro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066680"/>
            <a:ext cx="7467480" cy="54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  AaBb x AaBb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entury Schoolbook"/>
              </a:rPr>
              <a:t>The laws of probability govern Mendelian inheritan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153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Rule of Multiplic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bability that 2+ independent events will occu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ogeth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n a specific combi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multiply probabilities of each ev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. 1: probability of throwing 2 six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/6 x 1/6 = 1/3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. 2: probability of having 5 boys in a ro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½ x ½ x ½ x ½ x ½ = 1/3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. 3: If cross AABbCc x AaBbCc, probability of offspring with AaBbcc i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Answer: ½ x ½ x ¼ = 1/1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entury Schoolbook"/>
              </a:rPr>
              <a:t>The laws of probability govern Mendelian inheritan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153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Rule of Addi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bability that 2+ mutually exclusive events will occu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dd together individual probabili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. 1: chances of throwing a die that will land on 4 or 5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/6 + 1/6 = 1/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Segregation of alleles and fertilization as chance events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3" name="Content Placeholder 3" descr="14_09CoinToss-L.jpg"/>
          <p:cNvPicPr/>
          <p:nvPr/>
        </p:nvPicPr>
        <p:blipFill>
          <a:blip r:embed="rId1"/>
          <a:stretch/>
        </p:blipFill>
        <p:spPr>
          <a:xfrm>
            <a:off x="1790640" y="1600200"/>
            <a:ext cx="48006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8637"/>
                </a:solidFill>
                <a:latin typeface="Century Schoolbook"/>
              </a:rPr>
              <a:t>Extending Mendelian Genetic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04920" y="9144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001"/>
                </a:solidFill>
                <a:latin typeface="Arial"/>
              </a:rPr>
              <a:t>The relationship between genotype and phenotype is rare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304920" y="2133720"/>
            <a:ext cx="4800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Complete Domin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heterozygote and homozygote for dominant allele are indistinguish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g. YY or Yy = yellow s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Incomplete Dominance</a:t>
            </a:r>
            <a:r>
              <a:rPr b="0" lang="en-US" sz="2600" spc="-1" strike="noStrike">
                <a:solidFill>
                  <a:srgbClr val="020001"/>
                </a:solidFill>
                <a:latin typeface="Arial"/>
              </a:rPr>
              <a:t>: F</a:t>
            </a:r>
            <a:r>
              <a:rPr b="0" lang="en-US" sz="2600" spc="-1" strike="noStrike" baseline="-25000">
                <a:solidFill>
                  <a:srgbClr val="020001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20001"/>
                </a:solidFill>
                <a:latin typeface="Arial"/>
              </a:rPr>
              <a:t> hybrids have appearance that is between that of 2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00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001"/>
                </a:solidFill>
                <a:latin typeface="Arial"/>
              </a:rPr>
              <a:t>Eg. red x white = pink flow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5" descr="14_10IncompleteDom_3-L.jpg"/>
          <p:cNvPicPr/>
          <p:nvPr/>
        </p:nvPicPr>
        <p:blipFill>
          <a:blip r:embed="rId1"/>
          <a:stretch/>
        </p:blipFill>
        <p:spPr>
          <a:xfrm>
            <a:off x="5181480" y="1620720"/>
            <a:ext cx="3733920" cy="500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029"/>
          <p:cNvSpPr/>
          <p:nvPr/>
        </p:nvSpPr>
        <p:spPr>
          <a:xfrm>
            <a:off x="457200" y="230040"/>
            <a:ext cx="83059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Codominance</a:t>
            </a:r>
            <a:r>
              <a:rPr b="0" lang="en-US" sz="2600" spc="-1" strike="noStrike">
                <a:solidFill>
                  <a:srgbClr val="020001"/>
                </a:solidFill>
                <a:latin typeface="Arial"/>
              </a:rPr>
              <a:t>: phenotype of both alleles is expres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200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001"/>
                </a:solidFill>
                <a:latin typeface="Arial"/>
              </a:rPr>
              <a:t>Eg. red hair x white hairs = roan hor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Multiple Alleles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20001"/>
                </a:solidFill>
                <a:latin typeface="Arial"/>
              </a:rPr>
              <a:t>gene has 2+ alle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200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001"/>
                </a:solidFill>
                <a:latin typeface="Arial"/>
              </a:rPr>
              <a:t>Eg. human ABO blood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14_11ABOBloodGroups-L.jpg"/>
          <p:cNvPicPr/>
          <p:nvPr/>
        </p:nvPicPr>
        <p:blipFill>
          <a:blip r:embed="rId1"/>
          <a:stretch/>
        </p:blipFill>
        <p:spPr>
          <a:xfrm>
            <a:off x="3429000" y="2438280"/>
            <a:ext cx="5334120" cy="43545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4"/>
          <p:cNvSpPr/>
          <p:nvPr/>
        </p:nvSpPr>
        <p:spPr>
          <a:xfrm>
            <a:off x="304920" y="35053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les =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do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2c16"/>
                </a:solidFill>
                <a:latin typeface="Century Schoolbook"/>
                <a:ea typeface="ＭＳ Ｐゴシック"/>
              </a:rPr>
              <a:t>Blood Typing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609480" y="1600200"/>
          <a:ext cx="7467840" cy="4648320"/>
        </p:xfrm>
        <a:graphic>
          <a:graphicData uri="http://schemas.openxmlformats.org/drawingml/2006/table">
            <a:tbl>
              <a:tblPr/>
              <a:tblGrid>
                <a:gridCol w="3810240"/>
                <a:gridCol w="3657600"/>
              </a:tblGrid>
              <a:tr h="14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h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(Blood Grou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Genotype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ype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A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r I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ype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B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r I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ype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ype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2c16"/>
                </a:solidFill>
                <a:latin typeface="Century Schoolbook"/>
                <a:ea typeface="ＭＳ Ｐゴシック"/>
              </a:rPr>
              <a:t>Blood Transfusion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464832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ood transfusions must match blood ty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xing of foreign bloo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lumpin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dea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2c16"/>
                </a:solidFill>
                <a:latin typeface="Century Schoolbook"/>
              </a:rPr>
              <a:t>Rh facto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protein found on RBC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 (Rh+ = has protein, Rh- = no protei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2" descr="http://2.bp.blogspot.com/-qcX7_IAKVgE/TdP02HdQrlI/AAAAAAAAACM/-iObH_Xz_I4/s1600/Blood_Group_Compatibility.gif"/>
          <p:cNvPicPr/>
          <p:nvPr/>
        </p:nvPicPr>
        <p:blipFill>
          <a:blip r:embed="rId1"/>
          <a:stretch/>
        </p:blipFill>
        <p:spPr>
          <a:xfrm>
            <a:off x="2590920" y="838080"/>
            <a:ext cx="358128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  <a:ea typeface="ＭＳ Ｐゴシック"/>
              </a:rPr>
              <a:t>Blood Typing Problem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600200"/>
            <a:ext cx="80773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man who is heterozygous with type A blood marries a woman who is homozygous with type B blood. What possible blood types might their children hav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Ch. 14 Warm-Up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" y="91404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a test cross? How is it us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 = tongue roller, r = nonroll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would be the genotypic and phenotypic ratios for a cross between a heterozygous tongue roller and a non-rolle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: D = dimples, d = no d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traits would the children of 2 parents (Rrdd and rrDd) hav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943240" y="380520"/>
            <a:ext cx="2895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efinition Li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cro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domina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omina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omplete domina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alle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ygenic trai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digre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9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olygenic Inheritance</a:t>
            </a:r>
            <a:r>
              <a:rPr b="0" lang="en-US" sz="2800" spc="-1" strike="noStrike">
                <a:solidFill>
                  <a:srgbClr val="020001"/>
                </a:solidFill>
                <a:latin typeface="Arial"/>
              </a:rPr>
              <a:t>: the effect of 2 or more genes acting upon a single phenotypic character (eg. skin color, he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14_13PolygenicInherit-L.jpg"/>
          <p:cNvPicPr/>
          <p:nvPr/>
        </p:nvPicPr>
        <p:blipFill>
          <a:blip r:embed="rId1"/>
          <a:stretch/>
        </p:blipFill>
        <p:spPr>
          <a:xfrm>
            <a:off x="1981080" y="1662120"/>
            <a:ext cx="470556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0"/>
          <p:cNvSpPr/>
          <p:nvPr/>
        </p:nvSpPr>
        <p:spPr>
          <a:xfrm>
            <a:off x="45720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Nature and Nurture</a:t>
            </a:r>
            <a:r>
              <a:rPr b="0" lang="en-US" sz="2800" spc="-1" strike="noStrike">
                <a:solidFill>
                  <a:srgbClr val="020001"/>
                </a:solidFill>
                <a:latin typeface="Arial"/>
              </a:rPr>
              <a:t>: both </a:t>
            </a:r>
            <a:r>
              <a:rPr b="0" lang="en-US" sz="2800" spc="-1" strike="noStrike" u="sng">
                <a:solidFill>
                  <a:srgbClr val="020001"/>
                </a:solidFill>
                <a:uFillTx/>
                <a:latin typeface="Arial"/>
              </a:rPr>
              <a:t>genetic</a:t>
            </a:r>
            <a:r>
              <a:rPr b="0" lang="en-US" sz="2800" spc="-1" strike="noStrike">
                <a:solidFill>
                  <a:srgbClr val="020001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20001"/>
                </a:solidFill>
                <a:uFillTx/>
                <a:latin typeface="Arial"/>
              </a:rPr>
              <a:t>environmental</a:t>
            </a:r>
            <a:r>
              <a:rPr b="0" lang="en-US" sz="2800" spc="-1" strike="noStrike">
                <a:solidFill>
                  <a:srgbClr val="020001"/>
                </a:solidFill>
                <a:latin typeface="Arial"/>
              </a:rPr>
              <a:t> factors influence 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14_14_EnviroPhenotype-L.jpg"/>
          <p:cNvPicPr/>
          <p:nvPr/>
        </p:nvPicPr>
        <p:blipFill>
          <a:blip r:embed="rId1"/>
          <a:stretch/>
        </p:blipFill>
        <p:spPr>
          <a:xfrm>
            <a:off x="990720" y="1746360"/>
            <a:ext cx="6656400" cy="3365280"/>
          </a:xfrm>
          <a:prstGeom prst="rect">
            <a:avLst/>
          </a:prstGeom>
          <a:ln w="0">
            <a:noFill/>
          </a:ln>
        </p:spPr>
      </p:pic>
      <p:sp>
        <p:nvSpPr>
          <p:cNvPr id="432" name="TextBox 5"/>
          <p:cNvSpPr/>
          <p:nvPr/>
        </p:nvSpPr>
        <p:spPr>
          <a:xfrm>
            <a:off x="533520" y="5105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angea flowers vary in shade and intensity of color depending on acidity and aluminum content of the s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533520" y="228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2c16"/>
                </a:solidFill>
                <a:latin typeface="Arial"/>
              </a:rPr>
              <a:t>Mendelian Inheritance in Huma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533520" y="114300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0"/>
                </a:solidFill>
                <a:uFillTx/>
                <a:latin typeface="Arial"/>
              </a:rPr>
              <a:t>Pedigree</a:t>
            </a: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 that shows the relationship between parents/offspring across 2+ gen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001"/>
                </a:solidFill>
                <a:latin typeface="Arial"/>
              </a:rPr>
              <a:t>Woman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001"/>
                </a:solidFill>
                <a:latin typeface="Arial"/>
              </a:rPr>
              <a:t>Man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001"/>
                </a:solidFill>
                <a:latin typeface="Arial"/>
              </a:rPr>
              <a:t>Trait express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5"/>
          <p:cNvSpPr/>
          <p:nvPr/>
        </p:nvSpPr>
        <p:spPr>
          <a:xfrm>
            <a:off x="2057400" y="2514600"/>
            <a:ext cx="304920" cy="304920"/>
          </a:xfrm>
          <a:prstGeom prst="ellipse">
            <a:avLst/>
          </a:prstGeom>
          <a:noFill/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1600200" y="2895480"/>
            <a:ext cx="304920" cy="304920"/>
          </a:xfrm>
          <a:prstGeom prst="rect">
            <a:avLst/>
          </a:prstGeom>
          <a:noFill/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7"/>
          <p:cNvSpPr/>
          <p:nvPr/>
        </p:nvSpPr>
        <p:spPr>
          <a:xfrm>
            <a:off x="2849400" y="3244680"/>
            <a:ext cx="304920" cy="304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3382920" y="3244680"/>
            <a:ext cx="304920" cy="304920"/>
          </a:xfrm>
          <a:prstGeom prst="rect">
            <a:avLst/>
          </a:prstGeom>
          <a:solidFill>
            <a:srgbClr val="0d0d0d"/>
          </a:solidFill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1" descr="14_UN07Test_Q18-L.jpg"/>
          <p:cNvPicPr/>
          <p:nvPr/>
        </p:nvPicPr>
        <p:blipFill>
          <a:blip r:embed="rId1"/>
          <a:stretch/>
        </p:blipFill>
        <p:spPr>
          <a:xfrm>
            <a:off x="1828800" y="3733920"/>
            <a:ext cx="55404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entury Schoolbook"/>
                <a:ea typeface="ＭＳ Ｐゴシック"/>
              </a:rPr>
              <a:t>Pedigree Analysi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1" name="Content Placeholder 3" descr="14_15_PedigreeAnalysis-L.jpg"/>
          <p:cNvPicPr/>
          <p:nvPr/>
        </p:nvPicPr>
        <p:blipFill>
          <a:blip r:embed="rId1"/>
          <a:stretch/>
        </p:blipFill>
        <p:spPr>
          <a:xfrm>
            <a:off x="762120" y="1069920"/>
            <a:ext cx="78231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5438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  <a:ea typeface="ＭＳ Ｐゴシック"/>
              </a:rPr>
              <a:t>Genetic Disorder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236196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ystic fibrosis (CF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y-Sachs diseas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ckle-cell diseas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Phenylketonuria (PKU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343040" y="2361960"/>
            <a:ext cx="4467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Huntington</a:t>
            </a:r>
            <a:r>
              <a:rPr b="0" lang="ja-JP" sz="26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 disease (HD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7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Lethal dominant allele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35160" y="1630800"/>
            <a:ext cx="3825000" cy="5673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Schoolbook"/>
              </a:rPr>
              <a:t>Autosomal Recessiv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450320" y="1630800"/>
            <a:ext cx="4053600" cy="5673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Schoolbook"/>
              </a:rPr>
              <a:t>Autosomal Dominan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5" descr="14_UN03Summary_C3-L.jpg"/>
          <p:cNvPicPr/>
          <p:nvPr/>
        </p:nvPicPr>
        <p:blipFill>
          <a:blip r:embed="rId1"/>
          <a:stretch/>
        </p:blipFill>
        <p:spPr>
          <a:xfrm>
            <a:off x="401760" y="466560"/>
            <a:ext cx="834048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" descr="14_UN04Summary_C3-L.jpg"/>
          <p:cNvPicPr/>
          <p:nvPr/>
        </p:nvPicPr>
        <p:blipFill>
          <a:blip r:embed="rId1"/>
          <a:stretch/>
        </p:blipFill>
        <p:spPr>
          <a:xfrm>
            <a:off x="520560" y="136440"/>
            <a:ext cx="810288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H. 14 WARM-UP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914040"/>
            <a:ext cx="822960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probability that the following pair will produce the indicated offspring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ABBCC  X aabbcc -&gt;  AaBb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ABbCc  X  AaBbCc -&gt; AAbb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oss  AaBb  X  Aabb.  What is the probability of A__B__?  That the baby will phenotypically resemble parent 1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m is  A+.  She has 2 children, one is O+ and the other is B-.  (Note: Rh+ is RR or Rr, and Rh- is rr) What are the father’s possible genotyp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H. 14 WARM-UP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33520" y="1294920"/>
            <a:ext cx="815328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ies Jane (blood type B), John (blood type O), and Joe (blood type AB) were mixed up in the hospital. Who are their parent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ple #1: A, 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ple #2: A,B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ple #3: B,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Ch. 14 Warm-U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066680"/>
            <a:ext cx="8077320" cy="54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ystic Fibrosis is an autosomal recessive disorder. What are the chances that 2 carriers for this disease will have a child with CF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untington’s Disease is an autosomal dominant disorder. If a woman with this disease marries a normal man, what are the chances that their children will have the diseas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entury Schoolbook"/>
              </a:rPr>
              <a:t>MENDEL AND THE GENE IDE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66f"/>
                </a:solidFill>
                <a:latin typeface="Century Schoolbook"/>
              </a:rPr>
              <a:t>CHAPTER 14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3" descr="14_01Mendel-L.jpg"/>
          <p:cNvPicPr/>
          <p:nvPr/>
        </p:nvPicPr>
        <p:blipFill>
          <a:blip r:embed="rId1"/>
          <a:stretch/>
        </p:blipFill>
        <p:spPr>
          <a:xfrm>
            <a:off x="2514600" y="584280"/>
            <a:ext cx="44956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YOU NEED TO KNOW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03280" y="18284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erms associated with genetics problems: P,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dominant, recessive, homozygous, heterozygous, phenotype, genotyp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ow to derive the proper gametes when working a genetics problem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difference between an allele and a gen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ow to read a pedigre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Gregor Mendel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066680"/>
            <a:ext cx="5791320" cy="54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ustrian monk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rought experimental and quantitative approach to genetic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red pea plants to study inhertan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y pea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Control mating (self- vs. cross-pollination)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Many varieties availabl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Short generation tim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509920" cy="3129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14_02aCrossingPeaPlants-L.jpg"/>
          <p:cNvPicPr/>
          <p:nvPr/>
        </p:nvPicPr>
        <p:blipFill>
          <a:blip r:embed="rId2"/>
          <a:stretch/>
        </p:blipFill>
        <p:spPr>
          <a:xfrm>
            <a:off x="5846760" y="3581280"/>
            <a:ext cx="32972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21:45:49Z</dcterms:created>
  <dc:creator>Jackie</dc:creator>
  <dc:description/>
  <dc:language>en-US</dc:language>
  <cp:lastModifiedBy>local</cp:lastModifiedBy>
  <dcterms:modified xsi:type="dcterms:W3CDTF">2013-12-05T21:16:43Z</dcterms:modified>
  <cp:revision>72</cp:revision>
  <dc:subject/>
  <dc:title>MENDEL AND THE GENE IDEA</dc:title>
</cp:coreProperties>
</file>